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DDBB2-323F-47EA-83CF-35D08DD14F3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ca048"/>
                </a:solidFill>
                <a:latin typeface="Arial"/>
              </a:rPr>
              <a:t>Принятие Христианства на Рус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81b7d"/>
                </a:solidFill>
                <a:latin typeface="Arial"/>
              </a:rPr>
              <a:t>Открытый ур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81b7d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581b7d"/>
                </a:solidFill>
                <a:latin typeface="Arial"/>
              </a:rPr>
              <a:t>по истор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81b7d"/>
                </a:solidFill>
                <a:latin typeface="Arial"/>
              </a:rPr>
              <a:t>в 10 «А» клас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81b7d"/>
                </a:solidFill>
                <a:latin typeface="Arial"/>
              </a:rPr>
              <a:t>Учитель: Шаламова Т.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81b7d"/>
                </a:solidFill>
                <a:latin typeface="Arial"/>
              </a:rPr>
              <a:t>Ноябрь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A83A0-CBAB-421A-A926-176E728A58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ятие христианства  в 988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литическая обстанов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рьба Руси с Визант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зависимость Руси от Визант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46AF-0654-434C-90AC-B7CD844441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ение принятия христиан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авящая верхуш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ология для укрепления госп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рковь – новая политическая орган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ологически закрепило единство государ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D375A-79E0-4965-9034-6ED58FD0A7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ени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инятия христиан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ус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сьменность, достижения культуры Византии и других христианских стр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связи, рост авторитета Рус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C649E-2775-473F-9208-ABF844AB39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F21A8-ECC0-410F-BD96-037057606B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п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6 стр57-6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опросы 1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он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2E3FC-A484-4211-B067-9439F4D3B4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0d04"/>
                </a:solidFill>
                <a:latin typeface="Arial"/>
              </a:rPr>
              <a:t>Опрос домашнего зад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айте определения слова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юдь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гос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A187D-97F9-4441-B47B-5124A03C48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для повтор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какой исторической личностью связаны эти поняти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 княгиня Ольга обратилась в христианств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арактеризуйте политику Святосла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ая обстановка сложилась на Руси после гибели Святослав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85F59-46BA-46ED-A5D1-71FE009687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нязь Владимир Святославо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97F93-A077-48D7-A0E4-38F8A1DCD0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чность Владими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40E6C-2459-4E6D-88E0-F74EFF80DD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8FDC2-37F4-49FB-9EA4-061FC419CB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980 году князь Владимир попытался провести реформу старой религии – объявить одного бога- Перуна. Однако  механическое объединение племен. Божеств не могло привести к единству культа. И по прежнему идео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чины принятия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ристиан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возможность реформирования старой религ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нтеон языческих богов (980) не приводил к единству культа, разъединял части стр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ически разобщало стран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C2D7E-B9F5-4D1F-8955-54C1F7EC6F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и другие раннефеодальные государства Русь нуждалась в общегосударственной религии, которая закрепила бы только что созданное государственное единство. Дохристианская религия – язычество – такой роли играть не могла, будучи идеологией родового строя. Она вошла в противоречие с новыми условиями классового общПричины принятия христиан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Язычество не выражал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ого един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подство княжеской власти и феодальной верхуш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и примирения с существующим порядк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ва и государства и не была способна освящать и укреплять существующий общественный порядо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ятие христианства  в 988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б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изкое Руси социально-политическое устройство Визант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ространение христианства на Руси до князя Влади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C7BBA-39E1-40E9-82AB-8FA1157D86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CFAB-AC5E-47F7-A626-0F495A9E5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23BC-5FDC-4CEB-87B3-2C22D7AF8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30AC-755D-4ED8-B42C-43FAEBFB1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3E41-19F3-407C-9F7B-6B8B960D0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7DA69-C6A4-4468-A721-1345C6C4D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C7D19-57E5-4704-B17C-56B19BDD6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C1631-AC07-4156-9D98-F079AEE59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895FE-2F97-449A-B137-91A5E56CE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CD216-1BF3-47DA-9C9D-B814F2428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30B3D-C01E-448B-B59F-C8A33731C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588C2-AB92-44FB-8193-E5EAC32B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7769-C160-4A81-A539-09D509706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1A81F-400B-4AC5-BD96-2FA95005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C1EBE-924E-4645-954F-1E179B87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5C52A-548A-4393-9C4D-718D0309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0D274-7303-4789-A753-8C9B80789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16F44-2418-4295-9EB1-05109EDC3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EC56-28F6-4AB8-8CFB-580FAB3F7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4327-D91E-416A-B409-FC180050C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5D96-3CD7-445A-A69F-16EF21B1F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A2A9-A228-4B3D-BA6E-0835D4390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0099-20FC-4410-B1B0-C290AF49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36FB-EC89-4230-ACD6-EC12F011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51A8-6F5D-49F7-92A2-EEEEF86A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BBD54-2A30-4948-AE3B-FD7C65937AC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F92B1-53B8-4A52-A628-24BD5B8D5FA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22100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30033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ca048"/>
                </a:solidFill>
                <a:latin typeface="Times New Roman"/>
              </a:rPr>
              <a:t>Принятие Христианства на Руси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190760" y="3504960"/>
            <a:ext cx="4343400" cy="2438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30033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81b7d"/>
                </a:solidFill>
                <a:latin typeface="Arial"/>
              </a:rPr>
              <a:t>Открытый у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81b7d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581b7d"/>
                </a:solidFill>
                <a:latin typeface="Arial"/>
              </a:rPr>
              <a:t>по исто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81b7d"/>
                </a:solidFill>
                <a:latin typeface="Arial"/>
              </a:rPr>
              <a:t>в 10 «А» кла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81b7d"/>
                </a:solidFill>
                <a:latin typeface="Arial"/>
              </a:rPr>
              <a:t>Учитель: Шаламова Т.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81b7d"/>
                </a:solidFill>
                <a:latin typeface="Arial"/>
              </a:rPr>
              <a:t>Ноябрь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13306"/>
          <p:cNvPicPr/>
          <p:nvPr/>
        </p:nvPicPr>
        <p:blipFill>
          <a:blip r:embed="rId1"/>
          <a:stretch/>
        </p:blipFill>
        <p:spPr>
          <a:xfrm>
            <a:off x="528480" y="3048120"/>
            <a:ext cx="2913120" cy="358272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13306"/>
          <p:cNvPicPr/>
          <p:nvPr/>
        </p:nvPicPr>
        <p:blipFill>
          <a:blip r:embed="rId1"/>
          <a:stretch/>
        </p:blipFill>
        <p:spPr>
          <a:xfrm>
            <a:off x="1752480" y="0"/>
            <a:ext cx="557532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15535739_vasnecov_1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ринятие христианства  в 988 году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литическая обстанов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рьба Руси с Византи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зависимость Руси от Визант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25014919_Kreschenie_kievly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начение принятия христианств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авящая верхуш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деология для укрепления госпо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рковь – новая политическая организ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деологически закрепило единство государ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9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Значение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принятия христианств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у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сьменность, достижения культуры Византии и других христианских стр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ждународные связи, рост авторитета Рус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a_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pokrov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676520" y="0"/>
            <a:ext cx="546084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st04_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5" descr="image001"/>
          <p:cNvPicPr/>
          <p:nvPr/>
        </p:nvPicPr>
        <p:blipFill>
          <a:blip r:embed="rId1"/>
          <a:stretch/>
        </p:blipFill>
        <p:spPr>
          <a:xfrm>
            <a:off x="0" y="-133200"/>
            <a:ext cx="9144000" cy="699120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1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big[1]"/>
          <p:cNvPicPr/>
          <p:nvPr/>
        </p:nvPicPr>
        <p:blipFill>
          <a:blip r:embed="rId1"/>
          <a:srcRect l="0" t="8004" r="0" b="10004"/>
          <a:stretch/>
        </p:blipFill>
        <p:spPr>
          <a:xfrm>
            <a:off x="1676520" y="0"/>
            <a:ext cx="5472000" cy="693432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Домашнее задание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6 стр57-6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опросы 1-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н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100d04"/>
                </a:solidFill>
                <a:latin typeface="Times New Roman"/>
              </a:rPr>
              <a:t>Опрос домашнего задания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йте определения слова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юд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гос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опросы для повторения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какой исторической личностью связаны эти понят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ему княгиня Ольга обратилась в христианств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характеризуйте политику Святосла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ая обстановка сложилась на Руси после гибели Святослав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Князь Владимир Святославович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Image205_6720"/>
          <p:cNvPicPr/>
          <p:nvPr/>
        </p:nvPicPr>
        <p:blipFill>
          <a:blip r:embed="rId1"/>
          <a:srcRect l="0" t="4674" r="7792" b="4828"/>
          <a:stretch/>
        </p:blipFill>
        <p:spPr>
          <a:xfrm>
            <a:off x="1752480" y="1143000"/>
            <a:ext cx="5410440" cy="57150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Личность Владимира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23" name="Organization Chart 5"/>
          <p:cNvGrpSpPr/>
          <p:nvPr/>
        </p:nvGrpSpPr>
        <p:grpSpPr>
          <a:xfrm>
            <a:off x="532440" y="1219320"/>
            <a:ext cx="8547120" cy="5319000"/>
            <a:chOff x="532440" y="1219320"/>
            <a:chExt cx="8547120" cy="5319000"/>
          </a:xfrm>
        </p:grpSpPr>
        <p:cxnSp>
          <p:nvCxnSpPr>
            <p:cNvPr id="124" name="_s1028"/>
            <p:cNvCxnSpPr>
              <a:endCxn id="125" idx="2"/>
            </p:cNvCxnSpPr>
            <p:nvPr/>
          </p:nvCxnSpPr>
          <p:spPr>
            <a:xfrm flipV="1" rot="16200000">
              <a:off x="3247560" y="2674800"/>
              <a:ext cx="4177440" cy="3549600"/>
            </a:xfrm>
            <a:prstGeom prst="bentConnector3">
              <a:avLst>
                <a:gd name="adj1" fmla="val 317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6" name="_s1029"/>
            <p:cNvCxnSpPr>
              <a:stCxn id="127" idx="0"/>
              <a:endCxn id="128" idx="2"/>
            </p:cNvCxnSpPr>
            <p:nvPr/>
          </p:nvCxnSpPr>
          <p:spPr>
            <a:xfrm flipH="1" flipV="1" rot="5400000">
              <a:off x="6629400" y="1238040"/>
              <a:ext cx="157320" cy="2241000"/>
            </a:xfrm>
            <a:prstGeom prst="bentConnector3">
              <a:avLst>
                <a:gd name="adj1" fmla="val 504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9" name="_s1030"/>
            <p:cNvCxnSpPr>
              <a:stCxn id="128" idx="3"/>
              <a:endCxn id="125" idx="2"/>
            </p:cNvCxnSpPr>
            <p:nvPr/>
          </p:nvCxnSpPr>
          <p:spPr>
            <a:xfrm flipH="1">
              <a:off x="3561480" y="1751040"/>
              <a:ext cx="5404320" cy="610920"/>
            </a:xfrm>
            <a:prstGeom prst="bentConnector4">
              <a:avLst>
                <a:gd name="adj1" fmla="val -2111"/>
                <a:gd name="adj2" fmla="val 1373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0" name="_s1031"/>
            <p:cNvCxnSpPr>
              <a:stCxn id="131" idx="3"/>
              <a:endCxn id="125" idx="2"/>
            </p:cNvCxnSpPr>
            <p:nvPr/>
          </p:nvCxnSpPr>
          <p:spPr>
            <a:xfrm flipV="1">
              <a:off x="3274920" y="2360880"/>
              <a:ext cx="286920" cy="3580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2" name="_s1032"/>
            <p:cNvCxnSpPr>
              <a:stCxn id="133" idx="3"/>
              <a:endCxn id="125" idx="2"/>
            </p:cNvCxnSpPr>
            <p:nvPr/>
          </p:nvCxnSpPr>
          <p:spPr>
            <a:xfrm flipV="1">
              <a:off x="3200040" y="2361240"/>
              <a:ext cx="361800" cy="2365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4" name="_s1033"/>
            <p:cNvCxnSpPr/>
            <p:nvPr/>
          </p:nvCxnSpPr>
          <p:spPr>
            <a:xfrm flipV="1">
              <a:off x="2964240" y="3693600"/>
              <a:ext cx="845640" cy="26640"/>
            </a:xfrm>
            <a:prstGeom prst="bentConnector3">
              <a:avLst>
                <a:gd name="adj1" fmla="val 149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5" name="_s1034"/>
            <p:cNvCxnSpPr>
              <a:stCxn id="136" idx="3"/>
              <a:endCxn id="125" idx="2"/>
            </p:cNvCxnSpPr>
            <p:nvPr/>
          </p:nvCxnSpPr>
          <p:spPr>
            <a:xfrm flipV="1">
              <a:off x="3200040" y="2361240"/>
              <a:ext cx="361800" cy="534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5" name="_s1035"/>
            <p:cNvSpPr/>
            <p:nvPr/>
          </p:nvSpPr>
          <p:spPr>
            <a:xfrm>
              <a:off x="1828440" y="1294920"/>
              <a:ext cx="3459600" cy="10666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00d04"/>
                  </a:solidFill>
                  <a:latin typeface="Tahoma"/>
                </a:rPr>
                <a:t>Владимир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00d04"/>
                  </a:solidFill>
                  <a:latin typeface="Tahoma"/>
                </a:rPr>
                <a:t>(Великий князь Руси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00d04"/>
                  </a:solidFill>
                  <a:latin typeface="Tahoma"/>
                </a:rPr>
                <a:t>980-10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1036"/>
            <p:cNvSpPr/>
            <p:nvPr/>
          </p:nvSpPr>
          <p:spPr>
            <a:xfrm>
              <a:off x="608760" y="2515320"/>
              <a:ext cx="2591640" cy="76140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0033"/>
                  </a:solidFill>
                  <a:latin typeface="Tahoma"/>
                </a:rPr>
                <a:t>985 год Болгария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1037"/>
            <p:cNvSpPr/>
            <p:nvPr/>
          </p:nvSpPr>
          <p:spPr>
            <a:xfrm>
              <a:off x="608760" y="3351960"/>
              <a:ext cx="2591640" cy="75096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100d04"/>
                  </a:solidFill>
                  <a:latin typeface="Tahoma"/>
                </a:rPr>
                <a:t>988 год Корсунь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1038"/>
            <p:cNvSpPr/>
            <p:nvPr/>
          </p:nvSpPr>
          <p:spPr>
            <a:xfrm>
              <a:off x="608760" y="4267440"/>
              <a:ext cx="2591640" cy="91296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330033"/>
                  </a:solidFill>
                  <a:latin typeface="Tahoma"/>
                </a:rPr>
                <a:t>Пять жен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330033"/>
                  </a:solidFill>
                  <a:latin typeface="Tahoma"/>
                </a:rPr>
                <a:t>800 наложниц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1039"/>
            <p:cNvSpPr/>
            <p:nvPr/>
          </p:nvSpPr>
          <p:spPr>
            <a:xfrm>
              <a:off x="532440" y="5409720"/>
              <a:ext cx="2742840" cy="106596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100d04"/>
                  </a:solidFill>
                  <a:latin typeface="Tahoma"/>
                </a:rPr>
                <a:t>980 год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100d04"/>
                  </a:solidFill>
                  <a:latin typeface="Tahoma"/>
                </a:rPr>
                <a:t> </a:t>
              </a:r>
              <a:r>
                <a:rPr b="1" lang="en-US" sz="1900" spc="-1" strike="noStrike">
                  <a:solidFill>
                    <a:srgbClr val="100d04"/>
                  </a:solidFill>
                  <a:latin typeface="Tahoma"/>
                </a:rPr>
                <a:t>Языческая реформа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100d04"/>
                  </a:solidFill>
                  <a:latin typeface="Tahoma"/>
                </a:rPr>
                <a:t>Перун и др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1040"/>
            <p:cNvSpPr/>
            <p:nvPr/>
          </p:nvSpPr>
          <p:spPr>
            <a:xfrm>
              <a:off x="6684840" y="1219320"/>
              <a:ext cx="2280600" cy="10612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100d04"/>
                  </a:solidFill>
                  <a:latin typeface="Tahoma"/>
                </a:rPr>
                <a:t>Ярополк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100d04"/>
                  </a:solidFill>
                  <a:latin typeface="Tahoma"/>
                </a:rPr>
                <a:t>(Великий князь)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100d04"/>
                  </a:solidFill>
                  <a:latin typeface="Tahoma"/>
                </a:rPr>
                <a:t>972-98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041"/>
            <p:cNvSpPr/>
            <p:nvPr/>
          </p:nvSpPr>
          <p:spPr>
            <a:xfrm>
              <a:off x="4571280" y="2437200"/>
              <a:ext cx="2025720" cy="74772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100d04"/>
                  </a:solidFill>
                  <a:latin typeface="Tahoma"/>
                </a:rPr>
                <a:t>Убийство брата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042"/>
            <p:cNvSpPr/>
            <p:nvPr/>
          </p:nvSpPr>
          <p:spPr>
            <a:xfrm>
              <a:off x="4399920" y="3782520"/>
              <a:ext cx="3459600" cy="26488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100d04"/>
                  </a:solidFill>
                  <a:latin typeface="Tahoma"/>
                </a:rPr>
                <a:t>988 год. Мир с Польшей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100d04"/>
                  </a:solidFill>
                  <a:latin typeface="Tahoma"/>
                </a:rPr>
                <a:t>988 год. Женитьба на Анне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00d04"/>
                  </a:solidFill>
                  <a:latin typeface="Tahoma"/>
                </a:rPr>
                <a:t>988 г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00d04"/>
                  </a:solidFill>
                  <a:latin typeface="Tahoma"/>
                </a:rPr>
                <a:t>Крещение Руси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100d04"/>
                  </a:solidFill>
                  <a:latin typeface="Tahoma"/>
                </a:rPr>
                <a:t>Новгород огнем и мечем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Line 22"/>
          <p:cNvSpPr/>
          <p:nvPr/>
        </p:nvSpPr>
        <p:spPr>
          <a:xfrm flipV="1">
            <a:off x="5562720" y="16765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3"/>
          <p:cNvSpPr/>
          <p:nvPr/>
        </p:nvSpPr>
        <p:spPr>
          <a:xfrm>
            <a:off x="5257800" y="1600200"/>
            <a:ext cx="3049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ричины принятия 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христианства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возможность реформирования старой рели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нтеон языческих богов (980) не приводил к единству культа, разъединял части стра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ричины принятия христианств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Язычество не выражал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сударственного един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сподство княжеской власти и феодальной верхуш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деи примирения с существующим поряд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ринятие христианства  в 988 году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ыб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12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лизкое Руси социально-политическое устройство Визант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lnSpc>
                <a:spcPct val="12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пространение христианства на Руси до князя Владими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15T12:34:40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